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974-BBC1-4FE6-8500-0EEB93DD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A60-93BB-4047-8C35-8D5D693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658-C7C7-4233-BFD7-CCC0CE25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1A9-BEFE-42E5-ABC0-88322B96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52C-CABA-4644-920C-F2705B3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258-0633-488C-89FF-CDD9651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E01-7CAE-445F-874F-B3EAAEB3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11C-2176-43CE-90B6-EC0164B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1C0-C482-4DF0-9425-A04F08D2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AE2-AEF7-4E17-9DEF-AE5DCC5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998-9B61-4A21-80F8-D2BAD28E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7F5-7A84-46AF-8935-B318BB7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EE6D-E9AE-435C-B4E0-A29C93C89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images/0871207931/ref=dp_image_0?ie=UTF8&amp;n=283155&amp;s=book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 Management that Work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J. Marz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791320" y="5410080"/>
            <a:ext cx="289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tney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lphi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 7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lassroom Management That Works: Research-Based Strategies for Every Teac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743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Effective teachers appear to be effecti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with students of all achievement level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regardless of the levels of heterogeneity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their classes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 Paul Wright, Sandra Horn, and William Sanders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a School vs. a Teacher on Student Entering at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ile (Ma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228600" y="1752480"/>
          <a:ext cx="821196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211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6"/>
          <p:cNvSpPr/>
          <p:nvPr/>
        </p:nvSpPr>
        <p:spPr>
          <a:xfrm rot="16200000">
            <a:off x="-1530000" y="3739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ile Rank After 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Major Roles of Effective 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wise choices about the most effective instructional strategies to empl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classroom curriculum to facilitate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effective use of classroom managem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No single role by itself is sufficient t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guarantee student learning, but tak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one out of the mix and you probabl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guarantee that  students will ha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difficulty learning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Meta-Analysis is quantitatively combining the resul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rom a number of studies… and the meta-analys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research over the past 30 years indicates th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assroom management is one of the critica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ingredients of effective teaching – first in term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its impact on student achieve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zano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Components of Effective Classroom Manag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ary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-Studen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withitness” and emotional obje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825480"/>
          <a:ext cx="8229600" cy="5735520"/>
        </p:xfrm>
        <a:graphic>
          <a:graphicData uri="http://schemas.openxmlformats.org/drawingml/2006/table">
            <a:tbl>
              <a:tblPr/>
              <a:tblGrid>
                <a:gridCol w="4572000"/>
                <a:gridCol w="36576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 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 Decrease in Disrupti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and Proced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3 (2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iplinary Interven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ishment and Reinforc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70 (33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-Student Relationshi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69 (31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al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94 (4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9:47:49Z</dcterms:created>
  <dc:creator>setup</dc:creator>
  <dc:description/>
  <dc:language>en-US</dc:language>
  <cp:lastModifiedBy>Adelphi User</cp:lastModifiedBy>
  <dcterms:modified xsi:type="dcterms:W3CDTF">2010-06-16T21:32:23Z</dcterms:modified>
  <cp:revision>9</cp:revision>
  <dc:subject/>
  <dc:title>Slide 1</dc:title>
</cp:coreProperties>
</file>